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2BFD-B3B3-4A85-BD76-26A72A3D5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1F4D-DA59-40AE-919A-C8245BDB9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F805-EAEA-4769-A707-49FEAF176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4B06-B891-405E-8CAE-EF22DEDEE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A0E4-14F6-46A7-A44B-777CE9D46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2C62-B03B-4694-B8BC-26F19AB92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2CBB-AD9C-4BE2-B7A8-BDB687E0E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AD4D-7482-4FBD-BC37-7A9A2B9E6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D843-318B-4E8D-B9D2-256015752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D3CE-A736-4059-A4A7-801E55AE9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5F42-E6A8-4AB8-84A3-CD43DC9D9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94A5-5B6D-4093-B47F-3BBCE975B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0CB3-6BF8-49D7-8C99-4971A8CA8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C24D-D4FD-4AC6-AC87-A8F801F5A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09D7-4CC5-4DC2-B76D-4B4B5A6C4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D143-59EC-4F42-8536-CC4D3E02C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B332-0486-4CDB-A7EB-C201D2100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09BD-80D6-4ABA-8EBB-E1E7FD519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81996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0C53-FA9D-49F7-88FE-4C6403EB8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91440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81996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81996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C2B0-5AB8-47A4-BA36-D4D7F0AD5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91440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91440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81996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81996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81996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4C20-F93F-4FE5-972C-B975F2306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91440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91440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1996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B621-FDA0-4C5B-BDAE-5CB182575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91440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5760" y="381996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91440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81996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0" y="381996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91440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0" y="381996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5760" y="381996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91680" y="91440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83360" y="91440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0" y="381996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91680" y="381996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83360" y="381996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279D-12AF-4C11-BE99-ABF264306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91440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ED9D7-17A9-4378-90C1-36AC9133D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FC61-D54A-496E-AAEA-E6DB5E129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9044-30FB-46F2-B452-9D977B5A1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91440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1996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56FD9-2E79-4397-8C6A-E36E42055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91440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81996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F726-6465-489A-BD30-C06861EDB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91440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81996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6ECB-43DB-4814-A874-0E347F3EF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0" y="914400"/>
            <a:ext cx="9144000" cy="5562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86800" y="6534000"/>
            <a:ext cx="4572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4014-B931-455C-B025-DEA21CD42A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523880" y="6429240"/>
            <a:ext cx="6019920" cy="42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enter for Satellite Applications and Research (STAR) Review</a:t>
            </a:r>
            <a:br>
              <a:rPr sz="1100"/>
            </a:b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09 – 11 March 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noaa_seal"/>
          <p:cNvPicPr/>
          <p:nvPr/>
        </p:nvPicPr>
        <p:blipFill>
          <a:blip r:embed="rId2"/>
          <a:stretch/>
        </p:blipFill>
        <p:spPr>
          <a:xfrm>
            <a:off x="8318520" y="84240"/>
            <a:ext cx="765000" cy="7459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"/>
          <p:cNvPicPr/>
          <p:nvPr/>
        </p:nvPicPr>
        <p:blipFill>
          <a:blip r:embed="rId3"/>
          <a:srcRect l="8188" t="6194" r="7951" b="8702"/>
          <a:stretch/>
        </p:blipFill>
        <p:spPr>
          <a:xfrm>
            <a:off x="7508880" y="66600"/>
            <a:ext cx="765000" cy="781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NASA - terra_globe0047"/>
          <p:cNvPicPr/>
          <p:nvPr/>
        </p:nvPicPr>
        <p:blipFill>
          <a:blip r:embed="rId4"/>
          <a:srcRect l="14100" t="0" r="14100" b="0"/>
          <a:stretch/>
        </p:blipFill>
        <p:spPr>
          <a:xfrm>
            <a:off x="76320" y="0"/>
            <a:ext cx="874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noaa_seal"/>
          <p:cNvPicPr/>
          <p:nvPr/>
        </p:nvPicPr>
        <p:blipFill>
          <a:blip r:embed="rId3"/>
          <a:stretch/>
        </p:blipFill>
        <p:spPr>
          <a:xfrm>
            <a:off x="8077320" y="154080"/>
            <a:ext cx="990360" cy="9889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914400" y="6276960"/>
            <a:ext cx="72388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enter for Satellite Applications and Research (STAR) Review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9 – 11 March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077320" y="6324480"/>
            <a:ext cx="114300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Image: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MODIS Land Group,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NASA GSFC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March 20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4"/>
          <a:srcRect l="0" t="0" r="5197" b="5874"/>
          <a:stretch/>
        </p:blipFill>
        <p:spPr>
          <a:xfrm>
            <a:off x="76320" y="763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0" y="914400"/>
            <a:ext cx="9144000" cy="5562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Black"/>
              </a:rPr>
              <a:t>A Cloud Object Based Volcanic Ash Detection Technique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21896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 Black"/>
              </a:rPr>
              <a:t>Presen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Black"/>
              </a:rPr>
              <a:t>Michael Pavolo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8686800" y="6534000"/>
            <a:ext cx="457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7165-7EF5-40E1-8DB8-AA198AC854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822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hallenges and Path Forward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cience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validation is difficult given the lack of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-situ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servations of ash clou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ar products are being developed for other sensors such as: GOES, MTSAT, MODIS, SEVIRI, VIIRS, GOES-R, AIRS, IASI, and Cr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ur goal is an automated combined LEO/GEO global volcanic ash monitoring system that will be a reliable tool for volcanic ash forecasters and mode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Transition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VHRR component of this system is scheduled to be fully transitioned into NESDIS operations by May/June 2010 (a PSDI funded effor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have developed the algorithm which will be used to generate the operational GOES-R ash prod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goal is to transition the GOES products to NESDIS operations within the next few ye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 users: Volcanic Ash Advisory Centers (VAACs), Air Force, NRL, Modeling Community, Research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686800" y="6534000"/>
            <a:ext cx="457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96CF-09FC-45C7-AEBA-EE10642C7B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Requirement, Science, and Benefit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quirement/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ssion Goal: Commerce and Transpo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earch Area: Provide accurate, timely, and integrated weather information to meet air and surface transportation nee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w can satellite data be used to quantitatively track dangerous volcanic ash clouds? How can satellite data products be used to validate and improve forecasts of ash cloud disper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products will allow forecasters to issue more timely and accurate ash cloud warnings and forecasts to the aviation community, helping to reduce the risk of ash/aircraft encounters and limit the economic impact associated with rerouting aircraft around suspected ash clou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sh cloud property retrievals can be used to improve ash fall predictions.  Ash fall poses a major hazard to life, property, and natural re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686800" y="6534000"/>
            <a:ext cx="457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7404-2E11-4335-A298-12E6401782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822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hallenges and Path Forward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cience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validation is difficult given the lack of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-situ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servations of ash clou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ar products are being developed for other sensors such as: GOES, MTSAT, MODIS, SEVIRI, VIIRS, GOES-R, AIRS, IASI, and Cr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ur goal is an automated combined LEO/GEO global volcanic ash monitoring system that will be a reliable tool for volcanic ash forecasters and mode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Transition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VHRR component of this system is scheduled to be fully transitioned into NESDIS operations by May/June 2010 (a PSDI funded effor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have developed the algorithm which will be used to generate the operational GOES-R ash prod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goal is to transition the GOES products to NESDIS operations within the next few ye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 users: Volcanic Ash Advisory Centers (VAACs), Air Force, NRL, Modeling Community, Research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8686800" y="6534000"/>
            <a:ext cx="457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B45D-A5C1-419E-8AE5-20D8EE2621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sh Detection Method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5029200" y="914400"/>
            <a:ext cx="3809880" cy="2819520"/>
            <a:chOff x="5029200" y="914400"/>
            <a:chExt cx="3809880" cy="2819520"/>
          </a:xfrm>
        </p:grpSpPr>
        <p:pic>
          <p:nvPicPr>
            <p:cNvPr id="105" name="Picture 6" descr="beta1112_particle_size_three_compositions"/>
            <p:cNvPicPr/>
            <p:nvPr/>
          </p:nvPicPr>
          <p:blipFill>
            <a:blip r:embed="rId1"/>
            <a:stretch/>
          </p:blipFill>
          <p:spPr>
            <a:xfrm>
              <a:off x="5029200" y="914400"/>
              <a:ext cx="380988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Line 7"/>
            <p:cNvSpPr/>
            <p:nvPr/>
          </p:nvSpPr>
          <p:spPr>
            <a:xfrm>
              <a:off x="5544000" y="2082600"/>
              <a:ext cx="3140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8"/>
            <p:cNvSpPr/>
            <p:nvPr/>
          </p:nvSpPr>
          <p:spPr>
            <a:xfrm>
              <a:off x="5958000" y="2440440"/>
              <a:ext cx="179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olcanic As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9"/>
            <p:cNvSpPr/>
            <p:nvPr/>
          </p:nvSpPr>
          <p:spPr>
            <a:xfrm>
              <a:off x="6367680" y="1576800"/>
              <a:ext cx="24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teorological Clou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26"/>
          <p:cNvSpPr/>
          <p:nvPr/>
        </p:nvSpPr>
        <p:spPr>
          <a:xfrm>
            <a:off x="152280" y="1292400"/>
            <a:ext cx="3810240" cy="2288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lieu of traditional brightness temperature differences, the ash detection algorithm utilizes effective absorption optical depth ratios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ratios) (Pavolonis, 2010a and Pavolonis 2010b), which isolate the desired microphysical sign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6"/>
          <p:cNvSpPr/>
          <p:nvPr/>
        </p:nvSpPr>
        <p:spPr>
          <a:xfrm>
            <a:off x="76320" y="4114800"/>
            <a:ext cx="3124080" cy="2288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tially connected candidate volcanic ash pixels are grouped into cloud objects.  Spectral and spatial object statistics are used to determine which objects are ash clou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unfiltered_cleveland"/>
          <p:cNvPicPr/>
          <p:nvPr/>
        </p:nvPicPr>
        <p:blipFill>
          <a:blip r:embed="rId2"/>
          <a:stretch/>
        </p:blipFill>
        <p:spPr>
          <a:xfrm>
            <a:off x="3656160" y="3948120"/>
            <a:ext cx="5421240" cy="24526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7"/>
          <p:cNvSpPr/>
          <p:nvPr/>
        </p:nvSpPr>
        <p:spPr>
          <a:xfrm>
            <a:off x="6400800" y="3778200"/>
            <a:ext cx="2666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didate ash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77760" y="914400"/>
            <a:ext cx="38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gorithm Innovation #1: 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0" y="37479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gorithm Innovation #2: Spa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 flipV="1">
            <a:off x="3962520" y="1752480"/>
            <a:ext cx="990360" cy="152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3962520" y="1905120"/>
            <a:ext cx="990360" cy="3045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 flipV="1">
            <a:off x="3200400" y="4800600"/>
            <a:ext cx="457200" cy="3808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3200400" y="5181480"/>
            <a:ext cx="457200" cy="76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8686800" y="6534000"/>
            <a:ext cx="457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1F97-3357-4C97-8BAF-B83B6157F0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sh Detection Method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5029200" y="914400"/>
            <a:ext cx="3809880" cy="2819520"/>
            <a:chOff x="5029200" y="914400"/>
            <a:chExt cx="3809880" cy="2819520"/>
          </a:xfrm>
        </p:grpSpPr>
        <p:pic>
          <p:nvPicPr>
            <p:cNvPr id="122" name="Picture 5" descr="beta1112_particle_size_three_compositions"/>
            <p:cNvPicPr/>
            <p:nvPr/>
          </p:nvPicPr>
          <p:blipFill>
            <a:blip r:embed="rId1"/>
            <a:stretch/>
          </p:blipFill>
          <p:spPr>
            <a:xfrm>
              <a:off x="5029200" y="914400"/>
              <a:ext cx="380988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Line 6"/>
            <p:cNvSpPr/>
            <p:nvPr/>
          </p:nvSpPr>
          <p:spPr>
            <a:xfrm>
              <a:off x="5544000" y="2082600"/>
              <a:ext cx="3140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5958000" y="2440440"/>
              <a:ext cx="179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olcanic As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6367680" y="1576800"/>
              <a:ext cx="24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teorological Clou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26"/>
          <p:cNvSpPr/>
          <p:nvPr/>
        </p:nvSpPr>
        <p:spPr>
          <a:xfrm>
            <a:off x="152280" y="1292400"/>
            <a:ext cx="3810240" cy="2288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lieu of traditional brightness temperature differences, the ash detection algorithm utilizes effective absorption optical depth ratios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ratios) (Pavolonis, 2010a and Pavolonis 2010b), which isolate the desired microphysical sign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6"/>
          <p:cNvSpPr/>
          <p:nvPr/>
        </p:nvSpPr>
        <p:spPr>
          <a:xfrm>
            <a:off x="76320" y="4114800"/>
            <a:ext cx="3124080" cy="2288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tially connected candidate volcanic ash pixels are grouped into cloud objects.  Spectral and spatial object statistics are used to determine which objects are ash clou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77760" y="914400"/>
            <a:ext cx="38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gorithm Innovation #1: 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0" y="37479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gorithm Innovation #2: Spa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 flipV="1">
            <a:off x="3962520" y="1752480"/>
            <a:ext cx="990360" cy="152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3962520" y="1905120"/>
            <a:ext cx="990360" cy="3045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"/>
          <p:cNvSpPr/>
          <p:nvPr/>
        </p:nvSpPr>
        <p:spPr>
          <a:xfrm flipV="1">
            <a:off x="3200400" y="4800600"/>
            <a:ext cx="457200" cy="3808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8"/>
          <p:cNvSpPr/>
          <p:nvPr/>
        </p:nvSpPr>
        <p:spPr>
          <a:xfrm>
            <a:off x="3200400" y="5181480"/>
            <a:ext cx="457200" cy="76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9"/>
          <p:cNvGrpSpPr/>
          <p:nvPr/>
        </p:nvGrpSpPr>
        <p:grpSpPr>
          <a:xfrm>
            <a:off x="3656160" y="3948120"/>
            <a:ext cx="5421240" cy="2452680"/>
            <a:chOff x="3656160" y="3948120"/>
            <a:chExt cx="5421240" cy="2452680"/>
          </a:xfrm>
        </p:grpSpPr>
        <p:pic>
          <p:nvPicPr>
            <p:cNvPr id="135" name="Picture 20" descr="filtered_cleveland"/>
            <p:cNvPicPr/>
            <p:nvPr/>
          </p:nvPicPr>
          <p:blipFill>
            <a:blip r:embed="rId2"/>
            <a:stretch/>
          </p:blipFill>
          <p:spPr>
            <a:xfrm>
              <a:off x="3656160" y="3948120"/>
              <a:ext cx="5421240" cy="24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Oval 21"/>
            <p:cNvSpPr/>
            <p:nvPr/>
          </p:nvSpPr>
          <p:spPr>
            <a:xfrm>
              <a:off x="7391520" y="5168880"/>
              <a:ext cx="380880" cy="380880"/>
            </a:xfrm>
            <a:prstGeom prst="ellipse">
              <a:avLst/>
            </a:prstGeom>
            <a:noFill/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2"/>
            <p:cNvSpPr/>
            <p:nvPr/>
          </p:nvSpPr>
          <p:spPr>
            <a:xfrm>
              <a:off x="4648320" y="5168880"/>
              <a:ext cx="380880" cy="380880"/>
            </a:xfrm>
            <a:prstGeom prst="ellipse">
              <a:avLst/>
            </a:prstGeom>
            <a:noFill/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12"/>
          <p:cNvSpPr/>
          <p:nvPr/>
        </p:nvSpPr>
        <p:spPr>
          <a:xfrm>
            <a:off x="6400800" y="3778200"/>
            <a:ext cx="2666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tered ash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8686800" y="6534000"/>
            <a:ext cx="457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7573-51CA-49D8-AD9C-034ACD1FA0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Retrieval Method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974880"/>
            <a:ext cx="4267080" cy="5448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optimal estimation technique (Heidinger and Pavolonis, 2009) is applied to ash pixels to retrieve cloud temperature, emissivity, and a micro-physical param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trieved parameters are used to estimate cloud height, effective particle radius, and ash mass loa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error estimate for each of the retrieved parameters is a by-product of the optimal estimation appro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products can be used to improve ash dispersion and fallout foreca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5"/>
          <p:cNvGrpSpPr/>
          <p:nvPr/>
        </p:nvGrpSpPr>
        <p:grpSpPr>
          <a:xfrm>
            <a:off x="4343400" y="1744560"/>
            <a:ext cx="4724280" cy="4275360"/>
            <a:chOff x="4343400" y="1744560"/>
            <a:chExt cx="4724280" cy="4275360"/>
          </a:xfrm>
        </p:grpSpPr>
        <p:pic>
          <p:nvPicPr>
            <p:cNvPr id="143" name="Picture 6" descr="Met-9_chaiten_05-05-2008_1515"/>
            <p:cNvPicPr/>
            <p:nvPr/>
          </p:nvPicPr>
          <p:blipFill>
            <a:blip r:embed="rId1"/>
            <a:stretch/>
          </p:blipFill>
          <p:spPr>
            <a:xfrm>
              <a:off x="4343400" y="1744560"/>
              <a:ext cx="4724280" cy="42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7"/>
            <p:cNvSpPr/>
            <p:nvPr/>
          </p:nvSpPr>
          <p:spPr>
            <a:xfrm>
              <a:off x="6705720" y="2025720"/>
              <a:ext cx="144756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h Loa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8"/>
            <p:cNvSpPr/>
            <p:nvPr/>
          </p:nvSpPr>
          <p:spPr>
            <a:xfrm>
              <a:off x="4343400" y="4159080"/>
              <a:ext cx="144792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h Heigh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9"/>
            <p:cNvSpPr/>
            <p:nvPr/>
          </p:nvSpPr>
          <p:spPr>
            <a:xfrm>
              <a:off x="6705720" y="4143240"/>
              <a:ext cx="1143000" cy="580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ffective Radi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0"/>
          <p:cNvSpPr/>
          <p:nvPr/>
        </p:nvSpPr>
        <p:spPr>
          <a:xfrm>
            <a:off x="4724280" y="1219320"/>
            <a:ext cx="4114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Ash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8686800" y="6534000"/>
            <a:ext cx="457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2331-0B98-4F20-9FFD-F11B1AF842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28600" y="2057400"/>
            <a:ext cx="3733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 W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952880" y="2057400"/>
            <a:ext cx="3733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Quick-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utomated Ash Warning System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52280" y="927000"/>
            <a:ext cx="8763120" cy="1059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arning criteria is fully user configu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ddition to the text message, an automatically generated, pre-analyzed false color image along with product images are supplied to the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NOAA-15_AVHRR_montserrat_02-11-2010_2102"/>
          <p:cNvPicPr/>
          <p:nvPr/>
        </p:nvPicPr>
        <p:blipFill>
          <a:blip r:embed="rId1"/>
          <a:stretch/>
        </p:blipFill>
        <p:spPr>
          <a:xfrm>
            <a:off x="4800600" y="2614680"/>
            <a:ext cx="4013280" cy="3633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email_alert"/>
          <p:cNvPicPr/>
          <p:nvPr/>
        </p:nvPicPr>
        <p:blipFill>
          <a:blip r:embed="rId2"/>
          <a:stretch/>
        </p:blipFill>
        <p:spPr>
          <a:xfrm>
            <a:off x="0" y="2514600"/>
            <a:ext cx="4626000" cy="3343320"/>
          </a:xfrm>
          <a:prstGeom prst="rect">
            <a:avLst/>
          </a:prstGeom>
          <a:ln w="0">
            <a:noFill/>
          </a:ln>
        </p:spPr>
      </p:pic>
      <p:sp>
        <p:nvSpPr>
          <p:cNvPr id="155" name="Line 5"/>
          <p:cNvSpPr/>
          <p:nvPr/>
        </p:nvSpPr>
        <p:spPr>
          <a:xfrm flipH="1">
            <a:off x="4419720" y="3505320"/>
            <a:ext cx="838080" cy="7617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2209680" y="3657600"/>
            <a:ext cx="152640" cy="2209680"/>
          </a:xfrm>
          <a:custGeom>
            <a:avLst/>
            <a:gdLst>
              <a:gd name="textAreaLeft" fmla="*/ 0 w 152640"/>
              <a:gd name="textAreaRight" fmla="*/ 55080 w 1526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2362320" y="3886200"/>
            <a:ext cx="198108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ative description of ash cloud needed to issue accurate advis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8686800" y="6534000"/>
            <a:ext cx="457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6F64-E82F-4161-AF2C-EBB1A19149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228600" y="990720"/>
            <a:ext cx="8564400" cy="2635200"/>
            <a:chOff x="228600" y="990720"/>
            <a:chExt cx="8564400" cy="2635200"/>
          </a:xfrm>
        </p:grpSpPr>
        <p:pic>
          <p:nvPicPr>
            <p:cNvPr id="160" name="Picture 5" descr="redoubt_warning_time_series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8564400" cy="263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1" name="Group 6"/>
            <p:cNvGrpSpPr/>
            <p:nvPr/>
          </p:nvGrpSpPr>
          <p:grpSpPr>
            <a:xfrm>
              <a:off x="1477440" y="1295280"/>
              <a:ext cx="7010640" cy="1371600"/>
              <a:chOff x="1477440" y="1295280"/>
              <a:chExt cx="7010640" cy="1371600"/>
            </a:xfrm>
          </p:grpSpPr>
          <p:sp>
            <p:nvSpPr>
              <p:cNvPr id="162" name="Text Box 7"/>
              <p:cNvSpPr/>
              <p:nvPr/>
            </p:nvSpPr>
            <p:spPr>
              <a:xfrm>
                <a:off x="1630080" y="1905120"/>
                <a:ext cx="1067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alse alar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"/>
              <p:cNvSpPr/>
              <p:nvPr/>
            </p:nvSpPr>
            <p:spPr>
              <a:xfrm>
                <a:off x="4983120" y="1295280"/>
                <a:ext cx="106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alse alar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9"/>
              <p:cNvSpPr/>
              <p:nvPr/>
            </p:nvSpPr>
            <p:spPr>
              <a:xfrm>
                <a:off x="3078000" y="1447920"/>
                <a:ext cx="1676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arch 23 - 27 erup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10"/>
              <p:cNvSpPr/>
              <p:nvPr/>
            </p:nvSpPr>
            <p:spPr>
              <a:xfrm>
                <a:off x="6811920" y="1371600"/>
                <a:ext cx="1676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pril 1 and 4 erup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1"/>
              <p:cNvSpPr/>
              <p:nvPr/>
            </p:nvSpPr>
            <p:spPr>
              <a:xfrm flipV="1">
                <a:off x="5592600" y="1523880"/>
                <a:ext cx="304920" cy="7632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2"/>
              <p:cNvSpPr/>
              <p:nvPr/>
            </p:nvSpPr>
            <p:spPr>
              <a:xfrm flipH="1">
                <a:off x="1477440" y="2133720"/>
                <a:ext cx="228600" cy="4572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3"/>
              <p:cNvSpPr/>
              <p:nvPr/>
            </p:nvSpPr>
            <p:spPr>
              <a:xfrm flipH="1">
                <a:off x="3458880" y="2057400"/>
                <a:ext cx="533520" cy="1522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14"/>
              <p:cNvSpPr/>
              <p:nvPr/>
            </p:nvSpPr>
            <p:spPr>
              <a:xfrm>
                <a:off x="3992400" y="2057400"/>
                <a:ext cx="685800" cy="609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5"/>
              <p:cNvSpPr/>
              <p:nvPr/>
            </p:nvSpPr>
            <p:spPr>
              <a:xfrm flipH="1">
                <a:off x="7040160" y="2286000"/>
                <a:ext cx="152280" cy="30492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16"/>
              <p:cNvSpPr/>
              <p:nvPr/>
            </p:nvSpPr>
            <p:spPr>
              <a:xfrm>
                <a:off x="7192800" y="2286000"/>
                <a:ext cx="990720" cy="30492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7"/>
              <p:cNvSpPr/>
              <p:nvPr/>
            </p:nvSpPr>
            <p:spPr>
              <a:xfrm flipH="1">
                <a:off x="3733200" y="2057400"/>
                <a:ext cx="228600" cy="53352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" name="Text Box 18"/>
          <p:cNvSpPr/>
          <p:nvPr/>
        </p:nvSpPr>
        <p:spPr>
          <a:xfrm>
            <a:off x="304920" y="3733920"/>
            <a:ext cx="8610480" cy="2545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this 20 day period leading up to and including the 2009 eruptions of Redoubt, AK, only 2 false warnings occurred out of 474 full AVHRR scenes received directly at Gilmore Creek (GC), AK (0.5% of scenes received at G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ther words, a forecaster can expect a false warning once every 7 to 10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eruptive event captured by the AVHRR was det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utomated Warning Performance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OAA-18_AVHRR_redoubt_03-23-2009_1327"/>
          <p:cNvPicPr/>
          <p:nvPr/>
        </p:nvPicPr>
        <p:blipFill>
          <a:blip r:embed="rId1"/>
          <a:stretch/>
        </p:blipFill>
        <p:spPr>
          <a:xfrm>
            <a:off x="3225960" y="1015920"/>
            <a:ext cx="5613120" cy="50799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8686800" y="6534000"/>
            <a:ext cx="457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B4ED-A15F-4156-8F08-DFD87F20C5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Unique Early Warning Capability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52280" y="3581280"/>
            <a:ext cx="2514600" cy="2837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s is the first automated technique capable of identifying volcanic ash that is sequestered in ice, which is common in the early stages of the ash cloud lifecy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2590920" y="1447920"/>
            <a:ext cx="28191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52280" y="2238480"/>
            <a:ext cx="236232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detection of new eruption (ash is largely  sequestered in 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457200" y="990720"/>
            <a:ext cx="213372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nant ash from previous e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 flipV="1">
            <a:off x="2514600" y="251424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2:51:28Z</dcterms:created>
  <dc:creator>TC</dc:creator>
  <dc:description/>
  <dc:language>en-US</dc:language>
  <cp:lastModifiedBy>jeff braun</cp:lastModifiedBy>
  <dcterms:modified xsi:type="dcterms:W3CDTF">2010-10-01T19:55:28Z</dcterms:modified>
  <cp:revision>35</cp:revision>
  <dc:subject/>
  <dc:title>A Cloud Object Based Volcanic Ash Detection Technique</dc:title>
</cp:coreProperties>
</file>