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2051F-C6E5-452C-BC1C-140B739E6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D103-24B2-4ABF-9DCC-9335F7A70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CE1E0-8697-468D-8F06-F5993B767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ACD1F-B54A-4B81-BBC8-66507E342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874A-7583-47A4-90CD-1F2A8A87D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6CF20-DD97-4146-8077-6A5E9B9BF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DC78-615C-484E-8FA1-85E53E873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A939-0241-4926-B8B3-31AFE160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D24F4-0B81-4B2C-8ADC-A3B72AF7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944A-ACD3-4204-A094-D7D57B18A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233C-AEF2-4B7F-88C6-AC4135B2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55FFF-0219-47AD-80A9-89BAD230F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C6A0-2FC2-434B-965E-97D8AA92A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8487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volcanic ash as a hazard to aviation</a:t>
            </a:r>
            <a:br>
              <a:rPr sz="4400"/>
            </a:br>
            <a:r>
              <a:rPr b="0" lang="en-US" sz="4400" spc="-1" strike="noStrike">
                <a:solidFill>
                  <a:srgbClr val="000000"/>
                </a:solidFill>
                <a:latin typeface="Times New Roman"/>
              </a:rPr>
              <a:t>and as a factor in climat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Merril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Rhode Isl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te School of Oceanograp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8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8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DD6E-2155-43DE-8904-CD8977959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045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ted BTD Plume Images</a:t>
            </a:r>
            <a:br>
              <a:rPr sz="2800"/>
            </a:br>
            <a:r>
              <a:rPr b="0" lang="en-US" sz="2800" spc="-1" strike="noStrike">
                <a:solidFill>
                  <a:srgbClr val="000000"/>
                </a:solidFill>
                <a:latin typeface="Times New Roman"/>
              </a:rPr>
              <a:t>Bezymianny volcano, August, 2001</a:t>
            </a:r>
            <a:endParaRPr b="0" lang="en-US" sz="2800" spc="-1" strike="noStrike">
              <a:solidFill>
                <a:srgbClr val="000000"/>
              </a:solidFill>
              <a:latin typeface="Times New Roman"/>
            </a:endParaRPr>
          </a:p>
        </p:txBody>
      </p:sp>
      <p:sp>
        <p:nvSpPr>
          <p:cNvPr id="86" name="PlaceHolder 2"/>
          <p:cNvSpPr>
            <a:spLocks noGrp="1"/>
          </p:cNvSpPr>
          <p:nvPr>
            <p:ph/>
          </p:nvPr>
        </p:nvSpPr>
        <p:spPr>
          <a:xfrm>
            <a:off x="6857640" y="1676520"/>
            <a:ext cx="2057400" cy="49528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y scale for BTD used her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monitoring produc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use of GMS imag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hour sequence.</a:t>
            </a:r>
            <a:endParaRPr b="0" lang="en-US" sz="2400" spc="-1" strike="noStrike">
              <a:solidFill>
                <a:srgbClr val="000000"/>
              </a:solidFill>
              <a:latin typeface="Times New Roman"/>
            </a:endParaRPr>
          </a:p>
        </p:txBody>
      </p:sp>
      <p:pic>
        <p:nvPicPr>
          <p:cNvPr id="87" name="GMS_060801.gif" descr="GMS_060801"/>
          <p:cNvPicPr/>
          <p:nvPr/>
        </p:nvPicPr>
        <p:blipFill>
          <a:blip r:embed="rId1"/>
          <a:stretch/>
        </p:blipFill>
        <p:spPr>
          <a:xfrm>
            <a:off x="380880" y="1676520"/>
            <a:ext cx="6489720" cy="486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7"/>
                    </p:tgtEl>
                  </p:cond>
                </p:stCondLst>
                <p:childTnLst>
                  <p:par>
                    <p:cTn id="8" fill="hold">
                      <p:stCondLst>
                        <p:cond evt="onClick">
                          <p:tgtEl>
                            <p:spTgt spid="8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8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9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2B75-C6AC-4A5F-B25A-E29A41210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1" name="Picture 3" descr=""/>
          <p:cNvPicPr/>
          <p:nvPr/>
        </p:nvPicPr>
        <p:blipFill>
          <a:blip r:embed="rId1"/>
          <a:stretch/>
        </p:blipFill>
        <p:spPr>
          <a:xfrm>
            <a:off x="1158840" y="609480"/>
            <a:ext cx="682452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9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9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B1F2-F3EA-43FC-9363-297E038CE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5" name="Picture 3" descr=""/>
          <p:cNvPicPr/>
          <p:nvPr/>
        </p:nvPicPr>
        <p:blipFill>
          <a:blip r:embed="rId1"/>
          <a:stretch/>
        </p:blipFill>
        <p:spPr>
          <a:xfrm>
            <a:off x="1960560" y="609480"/>
            <a:ext cx="522288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6BE9-33F9-4703-8FD0-792A80999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 taken after detectio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nings are issued by responsible Volcano Observatory staff, including alerts to pilots.</a:t>
            </a:r>
            <a:endParaRPr b="0" lang="en-US" sz="32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ation of eruption by remote sensing and other techniques are employed urgently.</a:t>
            </a:r>
            <a:endParaRPr b="0" lang="en-US" sz="3200" spc="-1" strike="noStrike">
              <a:solidFill>
                <a:srgbClr val="000000"/>
              </a:solidFill>
              <a:latin typeface="Times New Roman"/>
            </a:endParaRPr>
          </a:p>
          <a:p>
            <a:pPr marL="318960" indent="-318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me transport simulations are carried out and results distributed to air traffic controll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7E1B-DD24-4355-ABEE-2C42C2EDB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PUFF model</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grangian particle advection model, including turbulent dispersion and gravitational sett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n location, height, mass flux are user-specifi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are presented in graphical form, either disaggregated (color coded) by height or keyed to specific flight lev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0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E049-1D99-4F23-BBC2-957362DCE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zymianni plume simulation - Puff model</a:t>
            </a:r>
            <a:endParaRPr b="0" lang="en-US" sz="2400" spc="-1" strike="noStrike">
              <a:solidFill>
                <a:srgbClr val="000000"/>
              </a:solidFill>
              <a:latin typeface="Times New Roman"/>
            </a:endParaRPr>
          </a:p>
        </p:txBody>
      </p:sp>
      <p:sp>
        <p:nvSpPr>
          <p:cNvPr id="110" name="PlaceHolder 2"/>
          <p:cNvSpPr>
            <a:spLocks noGrp="1"/>
          </p:cNvSpPr>
          <p:nvPr>
            <p:ph/>
          </p:nvPr>
        </p:nvSpPr>
        <p:spPr>
          <a:xfrm>
            <a:off x="6781680" y="1981080"/>
            <a:ext cx="1981440" cy="419112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s color coded 0 - 16 km.</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hour simul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me is “in place” at outset.</a:t>
            </a:r>
            <a:endParaRPr b="0" lang="en-US" sz="2400" spc="-1" strike="noStrike">
              <a:solidFill>
                <a:srgbClr val="000000"/>
              </a:solidFill>
              <a:latin typeface="Times New Roman"/>
            </a:endParaRPr>
          </a:p>
        </p:txBody>
      </p:sp>
      <p:pic>
        <p:nvPicPr>
          <p:cNvPr id="111" name="Bezy_080601_color.gif" descr="Bezy_080601_color"/>
          <p:cNvPicPr/>
          <p:nvPr/>
        </p:nvPicPr>
        <p:blipFill>
          <a:blip r:embed="rId1"/>
          <a:stretch/>
        </p:blipFill>
        <p:spPr>
          <a:xfrm>
            <a:off x="228600" y="1523880"/>
            <a:ext cx="6097680" cy="47721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1"/>
                    </p:tgtEl>
                  </p:cond>
                </p:stCondLst>
                <p:childTnLst>
                  <p:par>
                    <p:cTn id="19" fill="hold">
                      <p:stCondLst>
                        <p:cond evt="onClick">
                          <p:tgtEl>
                            <p:spTgt spid="111"/>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1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B398-CF0D-4D23-B474-5D4CBBBF3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met by PUFF and corresponding charactertistics</a:t>
            </a:r>
            <a:endParaRPr b="0" lang="en-US" sz="2800" spc="-1" strike="noStrike">
              <a:solidFill>
                <a:srgbClr val="000000"/>
              </a:solidFill>
              <a:latin typeface="Times New Roman"/>
            </a:endParaRPr>
          </a:p>
        </p:txBody>
      </p:sp>
      <p:sp>
        <p:nvSpPr>
          <p:cNvPr id="11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pecific, real time runs.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response for timely warning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of location, plume height, </a:t>
            </a:r>
            <a:r>
              <a:rPr b="0" i="1" lang="en-US" sz="2400" spc="-1" strike="noStrike">
                <a:solidFill>
                  <a:srgbClr val="000000"/>
                </a:solidFill>
                <a:latin typeface="Times New Roman"/>
              </a:rPr>
              <a:t>etc</a:t>
            </a:r>
            <a:r>
              <a:rPr b="0" lang="en-US" sz="2400" spc="-1" strike="noStrike">
                <a:solidFill>
                  <a:srgbClr val="000000"/>
                </a:solidFill>
                <a:latin typeface="Times New Roman"/>
              </a:rPr>
              <a:t>. Wind data via ID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ions, most of the judicio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7937-34F8-4BE4-9C0D-9472E65BB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spects and problems</a:t>
            </a:r>
            <a:endParaRPr b="0" lang="en-US" sz="3200" spc="-1" strike="noStrike">
              <a:solidFill>
                <a:srgbClr val="000000"/>
              </a:solidFill>
              <a:latin typeface="Times New Roman"/>
            </a:endParaRPr>
          </a:p>
        </p:txBody>
      </p:sp>
      <p:sp>
        <p:nvSpPr>
          <p:cNvPr id="122"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me height coverage has been limited by unavailability of winds above 16 km. [Few plumes go that high, and no civilian aircraft do. But particles settle, and we don’t want to be discombobulated by a big ev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volunteer system seems worrying. NOAA has an operational capability, and one assumes the Air Force does al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5FC6-F0DD-4A36-AA24-C7BBBD6CE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prospects</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sophistication could be developed: dynamic initialization, assimilating remotely-sensed plume characteri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nger term goal could be an integrative threat assessment system. Multi-faceted warnings (seismic, acoustic, surveilance radar, satellite remote sens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ning systems are heterogeneous, another worrying characteris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9B7-9EA7-46FB-B40B-B06E998F2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effects of massive volcanic erup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time of ash is limited, especially in the troposphere but even in the stratosphe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the radiative impact of ash on climate is min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uption clouds containing massive amounts of S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sult in long-lived stratospheric aerosols with lasting eff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CDF2-C4A1-4052-B695-E85899567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canic plumes as hazards to aviation</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licate ash particles in volcanic plumes cause several types of damage to aircraft when encountered during fligh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temperatures in the engines can exceed 1400 C, melting ash particles which then deposit on turbine blades or clog fuel line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s stalling are a common occurrence. Adept pilots have recovered, even with multiple engine fail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3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4F6B-740F-4304-B785-74152C4C4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lume typ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ctive columns do not extend above the middle stratosphere, because a single vent cannot emit sufficient heat or mass to support the colum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gnimbrite</a:t>
            </a:r>
            <a:r>
              <a:rPr b="0" lang="en-US" sz="2400" spc="-1" strike="noStrike">
                <a:solidFill>
                  <a:srgbClr val="000000"/>
                </a:solidFill>
                <a:latin typeface="Times New Roman"/>
              </a:rPr>
              <a:t> flows can arise from collapsed convective columns or lava pooled on the surf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low can separate where the air becomes superheated and particulates selectively settle out, and the remaining mixture becomes strongly buoyan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ing </a:t>
            </a:r>
            <a:r>
              <a:rPr b="0" lang="en-US" sz="2400" spc="-1" strike="noStrike" u="sng">
                <a:solidFill>
                  <a:srgbClr val="000000"/>
                </a:solidFill>
                <a:uFillTx/>
                <a:latin typeface="Times New Roman"/>
              </a:rPr>
              <a:t>co-ignimbrite</a:t>
            </a:r>
            <a:r>
              <a:rPr b="0" lang="en-US" sz="2400" spc="-1" strike="noStrike">
                <a:solidFill>
                  <a:srgbClr val="000000"/>
                </a:solidFill>
                <a:latin typeface="Times New Roman"/>
              </a:rPr>
              <a:t> flow can, in extreme cases, extend above the middle strat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FA20-393F-4C02-A088-476F8E731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of Toba volcano</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ba caldera in Sumatra, Indonesia was the site of four massive eruptions since 1.2 M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recent, 74 kya, resulted in the Youngest Toba Tuff. YTT is found in layers up to 10 m in thicknes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largest known eruption during the Quaternary. About 3000 km</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dense rock equivalent) was ejec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4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3145-3076-447B-8C06-626B5BF9E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ff simulation of hypothetical Toba eruption in 2003</a:t>
            </a:r>
            <a:endParaRPr b="0" lang="en-US" sz="2800" spc="-1" strike="noStrike">
              <a:solidFill>
                <a:srgbClr val="000000"/>
              </a:solidFill>
              <a:latin typeface="Times New Roman"/>
            </a:endParaRPr>
          </a:p>
        </p:txBody>
      </p:sp>
      <p:sp>
        <p:nvSpPr>
          <p:cNvPr id="147" name="PlaceHolder 2"/>
          <p:cNvSpPr>
            <a:spLocks noGrp="1"/>
          </p:cNvSpPr>
          <p:nvPr>
            <p:ph/>
          </p:nvPr>
        </p:nvSpPr>
        <p:spPr>
          <a:xfrm>
            <a:off x="6933960" y="1676520"/>
            <a:ext cx="1981080" cy="44956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height limited to 16 km.</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ce of UT westerly winds is obvious.</a:t>
            </a:r>
            <a:endParaRPr b="0" lang="en-US" sz="2400" spc="-1" strike="noStrike">
              <a:solidFill>
                <a:srgbClr val="000000"/>
              </a:solidFill>
              <a:latin typeface="Times New Roman"/>
            </a:endParaRPr>
          </a:p>
        </p:txBody>
      </p:sp>
      <p:pic>
        <p:nvPicPr>
          <p:cNvPr id="148" name="TobaAVN72.gif" descr="TobaAVN72"/>
          <p:cNvPicPr/>
          <p:nvPr/>
        </p:nvPicPr>
        <p:blipFill>
          <a:blip r:embed="rId1"/>
          <a:stretch/>
        </p:blipFill>
        <p:spPr>
          <a:xfrm>
            <a:off x="484200" y="1936800"/>
            <a:ext cx="6224400" cy="4081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48"/>
                    </p:tgtEl>
                  </p:cond>
                </p:stCondLst>
                <p:childTnLst>
                  <p:par>
                    <p:cTn id="30" fill="hold">
                      <p:stCondLst>
                        <p:cond evt="onClick">
                          <p:tgtEl>
                            <p:spTgt spid="148"/>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9524-AC1A-4AEF-85CA-57BA76F04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rther on Toba volcano</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ruption column was of co-ignimbrite form, arising from a widespread lake of eruptive material, perhaps &gt; 50 km wi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umn extended above 45 km, perhaps to the stratopa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distal ash has been found in the Indian Ocean and on the subcontinent. Recent results confirm ashfall in the Pacific as well. (Layers misidentified previously, ascribed to other ev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transport scenarios seems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17B1-D289-4507-A5DA-CAFBC4362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7" name="Picture 3" descr=""/>
          <p:cNvPicPr/>
          <p:nvPr/>
        </p:nvPicPr>
        <p:blipFill>
          <a:blip r:embed="rId1"/>
          <a:srcRect l="912" t="5880" r="912" b="5880"/>
          <a:stretch/>
        </p:blipFill>
        <p:spPr>
          <a:xfrm>
            <a:off x="914400" y="380880"/>
            <a:ext cx="7410600" cy="5146920"/>
          </a:xfrm>
          <a:prstGeom prst="rect">
            <a:avLst/>
          </a:prstGeom>
          <a:ln w="0">
            <a:noFill/>
          </a:ln>
        </p:spPr>
      </p:pic>
      <p:sp>
        <p:nvSpPr>
          <p:cNvPr id="158" name="Text Box 4"/>
          <p:cNvSpPr/>
          <p:nvPr/>
        </p:nvSpPr>
        <p:spPr>
          <a:xfrm>
            <a:off x="762120" y="3808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5"/>
          <p:cNvSpPr/>
          <p:nvPr/>
        </p:nvSpPr>
        <p:spPr>
          <a:xfrm>
            <a:off x="609480" y="57150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ical stratospheric winds vary in intensity and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B75D-B9E9-4675-A18B-7D1C605A0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3" name="Picture 3" descr=""/>
          <p:cNvPicPr/>
          <p:nvPr/>
        </p:nvPicPr>
        <p:blipFill>
          <a:blip r:embed="rId1"/>
          <a:srcRect l="912" t="11767" r="912" b="11767"/>
          <a:stretch/>
        </p:blipFill>
        <p:spPr>
          <a:xfrm>
            <a:off x="838080" y="380880"/>
            <a:ext cx="7410600" cy="4461120"/>
          </a:xfrm>
          <a:prstGeom prst="rect">
            <a:avLst/>
          </a:prstGeom>
          <a:ln w="0">
            <a:noFill/>
          </a:ln>
        </p:spPr>
      </p:pic>
      <p:sp>
        <p:nvSpPr>
          <p:cNvPr id="164" name="Text Box 7"/>
          <p:cNvSpPr/>
          <p:nvPr/>
        </p:nvSpPr>
        <p:spPr>
          <a:xfrm>
            <a:off x="533520" y="51814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ng winds encroach from above, weakening below 22 km. Quasi-biennial oscil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8192-0D90-4259-96B9-F8C0A9929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impacts of Toba eruption</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cooling must have occurred in the years after the eruption, although the magnitude and duration are open to discu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ss flux is estimated as ~ 1000 x that of Pinatubo (1˚C global cooling for one year) and ~100 x that of Tamboura (1815; 1816 was year “without a summer” in New Eng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glacial maximum ensued soon thereafter, despite the unfavorable phase of Milankovitch parame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CCBC-ECDC-4505-96DB-24EE8B706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rief summary</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zards caused by aircraft flying through regions of active explosive volcanism are reduced through attentive work of people in several discipli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development of the warning and modeling systems are needed. Any susp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the findings of eruption characterization studies, together with transport modeling, may lead to further insights on the impacts on clima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B024-85E5-4811-A2BC-DAA093F94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ments, </a:t>
            </a:r>
            <a:r>
              <a:rPr b="0" i="1" lang="en-US" sz="3200" spc="-1" strike="noStrike">
                <a:solidFill>
                  <a:srgbClr val="000000"/>
                </a:solidFill>
                <a:latin typeface="Times New Roman"/>
              </a:rPr>
              <a:t>inter alia</a:t>
            </a:r>
            <a:endParaRPr b="0" lang="en-US" sz="3200" spc="-1" strike="noStrike">
              <a:solidFill>
                <a:srgbClr val="000000"/>
              </a:solidFill>
              <a:latin typeface="Times New Roman"/>
            </a:endParaRPr>
          </a:p>
        </p:txBody>
      </p:sp>
      <p:sp>
        <p:nvSpPr>
          <p:cNvPr id="179" name="PlaceHolder 2"/>
          <p:cNvSpPr>
            <a:spLocks noGrp="1"/>
          </p:cNvSpPr>
          <p:nvPr>
            <p:ph/>
          </p:nvPr>
        </p:nvSpPr>
        <p:spPr>
          <a:xfrm>
            <a:off x="457200" y="1676520"/>
            <a:ext cx="8229600" cy="3124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s Steven Carey and Haraldur Sigurdsson, U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Meng Yang Lee, URI/National Taiwan 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rik Petersen and Ken Papp, University of Alaska - Fairbank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l Rose and his students, Michigan Technological Univers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Text Box 4"/>
          <p:cNvSpPr/>
          <p:nvPr/>
        </p:nvSpPr>
        <p:spPr>
          <a:xfrm>
            <a:off x="990720" y="5029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apology for the plain appearance of these fra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1FCD-11C4-4D87-9DF7-A000FEE69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on hazards to aviatio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sh particles also damage the aerodynamic surfaces of aircraft, generally an insidious thre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flights were in serious danger in the ‘90’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mage to the windscrean is a very common occurrence. Documentation of the frequency and cost of such damage helped spur alert system developm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ed efforts at volcano observatories, forecast offices and air traffic control centers began in the middle ‘90’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553C-26C1-4E0C-B432-103BF3B91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 name="Picture 3" descr=""/>
          <p:cNvPicPr/>
          <p:nvPr/>
        </p:nvPicPr>
        <p:blipFill>
          <a:blip r:embed="rId1"/>
          <a:stretch/>
        </p:blipFill>
        <p:spPr>
          <a:xfrm>
            <a:off x="1219320" y="1295280"/>
            <a:ext cx="7121520" cy="4888080"/>
          </a:xfrm>
          <a:prstGeom prst="rect">
            <a:avLst/>
          </a:prstGeom>
          <a:ln w="0">
            <a:noFill/>
          </a:ln>
        </p:spPr>
      </p:pic>
      <p:sp>
        <p:nvSpPr>
          <p:cNvPr id="57" name="Text Box 4"/>
          <p:cNvSpPr/>
          <p:nvPr/>
        </p:nvSpPr>
        <p:spPr>
          <a:xfrm>
            <a:off x="9144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s of some of the 100,000 flight per year in this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5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1635-B1CF-4539-804F-0F62701B0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3" descr=""/>
          <p:cNvPicPr/>
          <p:nvPr/>
        </p:nvPicPr>
        <p:blipFill>
          <a:blip r:embed="rId1"/>
          <a:stretch/>
        </p:blipFill>
        <p:spPr>
          <a:xfrm>
            <a:off x="1208160" y="609480"/>
            <a:ext cx="672624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6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CD7A-F00F-433F-A559-911370CD0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h transport/dispersal spread risk</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ruptions occur in uninhabited areas, undetected.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h clouds can remain airborne for several day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ing of the plume reduces the visual signature and makes discrimination from clouds difficult, particularly at nigh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craft radar is ineffec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2174-0A81-447D-ADAA-9AF1AD9D6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canic plume characteristic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uptive volcanic plumes occur in numerous forms, varying in height, intensity, duration and in sty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ced jet occurs at the surface, controlling the mass and heat flux.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umes hazardous to aviation typically have a deep convective column above the je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mbrella region spreads out atop the colum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ctive columns do not extend above the middle strat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E583-18FD-40A1-ABCA-B851117DB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uption plume from Mt. Spurr, AK</a:t>
            </a:r>
            <a:br>
              <a:rPr sz="3200"/>
            </a:br>
            <a:r>
              <a:rPr b="0" lang="en-US" sz="3200" spc="-1" strike="noStrike">
                <a:solidFill>
                  <a:srgbClr val="000000"/>
                </a:solidFill>
                <a:latin typeface="Times New Roman"/>
              </a:rPr>
              <a:t>Typical jet-convective-umbrella style</a:t>
            </a:r>
            <a:endParaRPr b="0" lang="en-US" sz="3200" spc="-1" strike="noStrike">
              <a:solidFill>
                <a:srgbClr val="000000"/>
              </a:solidFill>
              <a:latin typeface="Times New Roman"/>
            </a:endParaRPr>
          </a:p>
        </p:txBody>
      </p:sp>
      <p:pic>
        <p:nvPicPr>
          <p:cNvPr id="76" name="Picture 4" descr=""/>
          <p:cNvPicPr/>
          <p:nvPr/>
        </p:nvPicPr>
        <p:blipFill>
          <a:blip r:embed="rId1"/>
          <a:stretch/>
        </p:blipFill>
        <p:spPr>
          <a:xfrm>
            <a:off x="1279440" y="1981080"/>
            <a:ext cx="658332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2003</a:t>
            </a:r>
            <a:endParaRPr b="0" lang="en-US" sz="1400" spc="-1" strike="noStrike">
              <a:solidFill>
                <a:srgbClr val="000000"/>
              </a:solidFill>
              <a:latin typeface="Times New Roman"/>
            </a:endParaRPr>
          </a:p>
        </p:txBody>
      </p:sp>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anding Horizons Workshop</a:t>
            </a:r>
            <a:endParaRPr b="0" lang="en-US" sz="1400" spc="-1" strike="noStrike">
              <a:solidFill>
                <a:srgbClr val="000000"/>
              </a:solidFill>
              <a:latin typeface="Times New Roman"/>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6413-FAEF-48DB-B039-E9127BC21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lit-window IR detecti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h clouds can be detected by displaying the Brightness Temperature Difference, Ch 4 - Ch 5 (~11, 12 </a:t>
            </a:r>
            <a:r>
              <a:rPr b="0" lang="en-US" sz="2800" spc="-1" strike="noStrike">
                <a:solidFill>
                  <a:srgbClr val="000000"/>
                </a:solidFill>
                <a:latin typeface="Symbol"/>
                <a:ea typeface="Symbol"/>
              </a:rPr>
              <a:t></a:t>
            </a:r>
            <a:r>
              <a:rPr b="0" lang="en-US" sz="2800" spc="-1" strike="noStrike">
                <a:solidFill>
                  <a:srgbClr val="000000"/>
                </a:solidFill>
                <a:latin typeface="Times New Roman"/>
              </a:rPr>
              <a:t>m) using AVHRR or GO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TD &gt; 0 almost everywhere, as Planck function falls off rapidly as </a:t>
            </a:r>
            <a:r>
              <a:rPr b="0" lang="en-US" sz="2800" spc="-1" strike="noStrike">
                <a:solidFill>
                  <a:srgbClr val="000000"/>
                </a:solidFill>
                <a:latin typeface="Symbol"/>
                <a:ea typeface="Symbol"/>
              </a:rPr>
              <a:t></a:t>
            </a:r>
            <a:r>
              <a:rPr b="0" lang="en-US" sz="2800" spc="-1" strike="noStrike">
                <a:solidFill>
                  <a:srgbClr val="000000"/>
                </a:solidFill>
                <a:latin typeface="Times New Roman"/>
              </a:rPr>
              <a:t> increa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silica has a strong absorption line near 11 </a:t>
            </a:r>
            <a:r>
              <a:rPr b="0" lang="en-US" sz="2800" spc="-1" strike="noStrike">
                <a:solidFill>
                  <a:srgbClr val="000000"/>
                </a:solidFill>
                <a:latin typeface="Symbol"/>
                <a:ea typeface="Symbol"/>
              </a:rPr>
              <a:t></a:t>
            </a:r>
            <a:r>
              <a:rPr b="0" lang="en-US" sz="2800" spc="-1" strike="noStrike">
                <a:solidFill>
                  <a:srgbClr val="000000"/>
                </a:solidFill>
                <a:latin typeface="Times New Roman"/>
              </a:rPr>
              <a:t>m, so BTD &lt; 0 in elevated ash or du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 signal obscured by thick water clouds, of course, and its absence does not guarantee air free of a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1:06:42Z</dcterms:created>
  <dc:creator>John Merrill</dc:creator>
  <dc:description/>
  <dc:language>en-US</dc:language>
  <cp:lastModifiedBy>braun</cp:lastModifiedBy>
  <dcterms:modified xsi:type="dcterms:W3CDTF">2008-08-14T16:58:21Z</dcterms:modified>
  <cp:revision>36</cp:revision>
  <dc:subject/>
  <dc:title>PowerPoint Presentation</dc:title>
</cp:coreProperties>
</file>